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44E-28F5-491A-8119-775FFD4B34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 - Technologie de l’application GALION :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-serv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se départe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ur multi-applications SOMA en D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ALION-Web =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chnologi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rme ACA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ur Centrali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- Tous les acteurs concernés peuvent accéder à l’applications GALION-Web. La sécurité est assurée par une authentification CERBERE qui est le système du Ministère pour la gestion des authentifications. Un ensemble de profils a été défini pour attribuer les autorisations d’accès aux différentes fonctionnalités de l’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 – Pour pouvoir intégrer très rapidement dans l’application les évolutions de la réglementation, l’application a été entièrement paramétrée. L’administrateur national pourra apporter lui même les modifications sans avoir à intervenir dans les programmes. Ces changements seront opérationnels immédiatement et pour tous les acte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– La base centrale GALION-Web alimentera quotidiennement l’Info centre SISAL, en toute transpa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us d’alimentation par script au niveau de chaque D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F480-61D8-4413-81F1-BD220ACBC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B5AE-9490-433C-A6F6-1F315D2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884F-9E5F-454C-BCBF-23817AA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9E32-86B8-4BAE-B66B-6125C9757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09D1-3BF5-4710-ACE9-818FC155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099E-5595-47F6-99CB-005257DD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135E0-6AD4-4C80-9971-52C1809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AD47-804C-46B8-AED8-002AC7A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5CE3-FF2A-4AD6-A552-8C5321C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743E-702F-4696-896C-AF8C3FBC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6C0A-D586-4DEA-948C-0DCDEC2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DA15-01B1-42DA-A43F-EC98E9D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290CD-4649-4BF6-BD5B-96CBC9F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398F-2BE7-4102-8CC6-4186AD5C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3792-7152-434E-82F3-D4EA3FC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7B07A-0DE7-4F6F-A777-143819DB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AC438-B5FD-4AED-8D06-4ABFF4F7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9B4A-B15B-4D70-B3D0-D6E0148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A044-D229-4CE7-B911-9701EE0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23E-5C40-4D01-8E13-BF4CEC57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01AD-EDA8-4303-B51E-4EC0F0C8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7F26-46B4-4D26-BC67-6B8672D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3332-60DA-47D1-B8CB-66DC718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6C3F-B0CA-40A3-A428-6BF73BD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PND-Logem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C8C6-EF07-4429-83A7-C4E92CF66D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firstslide"/>
          </p:cNvPr>
          <p:cNvSpPr/>
          <p:nvPr/>
        </p:nvSpPr>
        <p:spPr>
          <a:xfrm>
            <a:off x="77724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endshow"/>
          </p:cNvPr>
          <p:cNvSpPr/>
          <p:nvPr/>
        </p:nvSpPr>
        <p:spPr>
          <a:xfrm>
            <a:off x="868680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14800" y="647712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vigation rapid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819520" y="6477120"/>
            <a:ext cx="495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Clic sur la diapo pour la visionner progressivement        ou    Navigation rapide :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2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ADB3-CA06-4CE7-AAC0-A90C7F96E0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7724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868680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alion.info.application.logement.gouv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nd-logement@equipement.gouv.fr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GALION-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Aide à l’instruction et suivi des dossiers d’aide à la pier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rés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ur en savoir pl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ulter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 guide de prise en m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 manuel de l’utilisate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 reprise de données GALION 5.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 manuel de l’administrateur nat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’aide mémo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prise de données GAL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module export de GA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exécuté dans chaque D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module import dans GALION-We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Exécuté au niveau central par la DGUH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héma de la repr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schema_reprise_nouveau" descr=""/>
          <p:cNvPicPr/>
          <p:nvPr/>
        </p:nvPicPr>
        <p:blipFill>
          <a:blip r:embed="rId1"/>
          <a:stretch/>
        </p:blipFill>
        <p:spPr>
          <a:xfrm>
            <a:off x="228600" y="1746360"/>
            <a:ext cx="8915400" cy="457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ccompagn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Le site d’informations GALION-We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00cc"/>
                </a:solidFill>
                <a:uFillTx/>
                <a:latin typeface="Bitstream Vera Sans"/>
                <a:hlinkClick r:id="rId1"/>
              </a:rPr>
              <a:t>http://galion.info.application.logement.gouv.f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capitalise l’ensemble des informations accompagnant l’application GALION-We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rés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ie de l’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ét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ccompagn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e PND-Lo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Pôle national de diffusion des applications du domaine log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essagerie:  </a:t>
            </a:r>
            <a:r>
              <a:rPr b="0" lang="fr-FR" sz="2000" spc="-1" strike="noStrike" u="sng">
                <a:solidFill>
                  <a:srgbClr val="cc00cc"/>
                </a:solidFill>
                <a:uFillTx/>
                <a:latin typeface="Bitstream Vera Sans"/>
                <a:hlinkClick r:id="rId1"/>
              </a:rPr>
              <a:t>pnd-logement@equipement.gouv.f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équipe d’assistance à votre serv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es principales activités sur GALION-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nception de la documentation utilisateu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ormation GALION-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ssistance à l’utilisation de l’appl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nception et mise à jour du site d’inform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839080" y="228600"/>
            <a:ext cx="304920" cy="3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371600" y="51814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Écolo-geste :  Évitez d’imprimer cette présentation; elle est conçue pour être visionnée</a:t>
            </a:r>
            <a:r>
              <a:rPr b="0" lang="en-US" sz="9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…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Objectif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Remplacer une application à technologie dépassé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Permettre l’accès aux délégataires en toute sécurit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Permettre, grâce au paramétrage, une adaptation rapide de l’application face aux évolutions de la réglement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limenter quotidiennement et de façon transparente l’info centre SIS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GALION-Web  </a:t>
            </a:r>
            <a:br>
              <a:rPr sz="4400"/>
            </a:b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Une nouvelle technologi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Application centralisé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Disponible sur internet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Sécurisée par authentification CERBER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aramétrable pour répondre aux évolutions de la réglemen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te de travail requ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PC équipé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’une connexion à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’un navigateur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nternet Explorer 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ireFo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’un outillage bureautiq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OpenOffice o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icrosoft Off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33520" y="990720"/>
          <a:ext cx="8076960" cy="2666880"/>
        </p:xfrm>
        <a:graphic>
          <a:graphicData uri="http://schemas.openxmlformats.org/drawingml/2006/table">
            <a:tbl>
              <a:tblPr/>
              <a:tblGrid>
                <a:gridCol w="3885840"/>
                <a:gridCol w="41911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atures d'opération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id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Offre Nouvell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LUS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Locatif à Usage Soci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LUS_CD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Locatif à Usage Social pour des opérations de Construction Démolitio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LA_I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Locatif Aidé à financement très soci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SLA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Social Location-Accessio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LS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Locatif Social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LI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êt Locatif Intermédiair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SUR_FONC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Surcharge Foncièr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ANT_FONC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Anticipation Foncièr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R_INS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rime d'insertio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Périmètre de GALION-Web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3657600"/>
          <a:ext cx="8076960" cy="533520"/>
        </p:xfrm>
        <a:graphic>
          <a:graphicData uri="http://schemas.openxmlformats.org/drawingml/2006/table">
            <a:tbl>
              <a:tblPr/>
              <a:tblGrid>
                <a:gridCol w="3885840"/>
                <a:gridCol w="4191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émolitio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DEMOL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Démolitio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CHU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Changement d'usag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33520" y="4191120"/>
          <a:ext cx="8076960" cy="761760"/>
        </p:xfrm>
        <a:graphic>
          <a:graphicData uri="http://schemas.openxmlformats.org/drawingml/2006/table">
            <a:tbl>
              <a:tblPr/>
              <a:tblGrid>
                <a:gridCol w="3886200"/>
                <a:gridCol w="419076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Étud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MOUS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Maîtrise d'oeuvre Urbaine et Social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SP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lan stratégique de patrimoin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ETU_HAB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Etude Habita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3520" y="4952880"/>
          <a:ext cx="8076960" cy="304920"/>
        </p:xfrm>
        <a:graphic>
          <a:graphicData uri="http://schemas.openxmlformats.org/drawingml/2006/table">
            <a:tbl>
              <a:tblPr/>
              <a:tblGrid>
                <a:gridCol w="3886200"/>
                <a:gridCol w="4190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terventions sur Aires Gens du Voyag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GVOY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Aires d'accueil pour les gens du voyag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33520" y="5257800"/>
          <a:ext cx="8076960" cy="533520"/>
        </p:xfrm>
        <a:graphic>
          <a:graphicData uri="http://schemas.openxmlformats.org/drawingml/2006/table">
            <a:tbl>
              <a:tblPr/>
              <a:tblGrid>
                <a:gridCol w="388620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LLS Complémentair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HEU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Hebergement d'Urgence et Logement Temporair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ALU_COM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alulos Communal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33520" y="5791320"/>
          <a:ext cx="8076960" cy="895320"/>
        </p:xfrm>
        <a:graphic>
          <a:graphicData uri="http://schemas.openxmlformats.org/drawingml/2006/table">
            <a:tbl>
              <a:tblPr/>
              <a:tblGrid>
                <a:gridCol w="3885840"/>
                <a:gridCol w="419112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éhabilitatio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ALU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alulos (Prime à l'amélioration des Logements à Usage Locatif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AQS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Amélioration Qualité de Servic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. PALU_PT</a:t>
                      </a:r>
                      <a:r>
                        <a:rPr b="0" lang="fr-FR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= Palulos Petits Travaux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Fonctionnalité d’instruction des dossiers d’a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MenuInstruction" descr=""/>
          <p:cNvPicPr/>
          <p:nvPr/>
        </p:nvPicPr>
        <p:blipFill>
          <a:blip r:embed="rId1"/>
          <a:stretch/>
        </p:blipFill>
        <p:spPr>
          <a:xfrm>
            <a:off x="228600" y="1911240"/>
            <a:ext cx="8686800" cy="4565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19520" y="1981080"/>
            <a:ext cx="1066680" cy="457200"/>
          </a:xfrm>
          <a:prstGeom prst="wedgeRoundRectCallout">
            <a:avLst>
              <a:gd name="adj1" fmla="val -99851"/>
              <a:gd name="adj2" fmla="val 7291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ruc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895480"/>
            <a:ext cx="2057400" cy="914400"/>
          </a:xfrm>
          <a:prstGeom prst="wedgeRoundRectCallout">
            <a:avLst>
              <a:gd name="adj1" fmla="val -135569"/>
              <a:gd name="adj2" fmla="val -243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Dossiers de financement permet la création et la gestion des dossiers durant tout leur cycle de vi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730680"/>
            <a:ext cx="2058840" cy="1295280"/>
          </a:xfrm>
          <a:prstGeom prst="wedgeRoundRectCallout">
            <a:avLst>
              <a:gd name="adj1" fmla="val -208643"/>
              <a:gd name="adj2" fmla="val -1286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Financement Globaux permet la création et la gestion des dossiers regroupant plusieurs dossiers d’une même année, de même nature et pour le même maître d’ouvrag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32720" y="4382280"/>
            <a:ext cx="2116800" cy="98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Extraction permet d’extraire les données attachées aux dossiers.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’extraction produit des fichiers au format CSV, compatibles avec les tableurs Calc et Exce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nctionnalités de Gestion des conventions de délég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MenuConventions" descr=""/>
          <p:cNvPicPr/>
          <p:nvPr/>
        </p:nvPicPr>
        <p:blipFill>
          <a:blip r:embed="rId1"/>
          <a:stretch/>
        </p:blipFill>
        <p:spPr>
          <a:xfrm>
            <a:off x="0" y="1828800"/>
            <a:ext cx="905832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81280" y="1905120"/>
            <a:ext cx="1067040" cy="457200"/>
          </a:xfrm>
          <a:prstGeom prst="wedgeRoundRectCallout">
            <a:avLst>
              <a:gd name="adj1" fmla="val -84972"/>
              <a:gd name="adj2" fmla="val 7777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u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ventions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505320"/>
            <a:ext cx="2590920" cy="685800"/>
          </a:xfrm>
          <a:prstGeom prst="wedgeRoundRectCallout">
            <a:avLst>
              <a:gd name="adj1" fmla="val -99143"/>
              <a:gd name="adj2" fmla="val -4976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Enveloppes/Contingents permet la gestion des enveloppes budgétaires et des contingents de logements.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343400"/>
            <a:ext cx="2438280" cy="609480"/>
          </a:xfrm>
          <a:prstGeom prst="wedgeRoundRectCallout">
            <a:avLst>
              <a:gd name="adj1" fmla="val -79231"/>
              <a:gd name="adj2" fmla="val -10807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Exercices permet  d’ouvrir et clore les exercices au niveau de chaque entité gestionnaire.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2362320" cy="685800"/>
          </a:xfrm>
          <a:prstGeom prst="wedgeRoundRectCallout">
            <a:avLst>
              <a:gd name="adj1" fmla="val -115592"/>
              <a:gd name="adj2" fmla="val 231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Conventions de délégation permet de créer  et mettre à jour les conventions pour chaque entité délégataire.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nctionnalités de paramétrage des aid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MenuParamétrage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289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2133720"/>
            <a:ext cx="1067040" cy="533160"/>
          </a:xfrm>
          <a:prstGeom prst="wedgeRoundRectCallout">
            <a:avLst>
              <a:gd name="adj1" fmla="val -106250"/>
              <a:gd name="adj2" fmla="val 526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u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métrage des aides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048120"/>
            <a:ext cx="1904760" cy="914400"/>
          </a:xfrm>
          <a:prstGeom prst="wedgeRoundRectCallout">
            <a:avLst>
              <a:gd name="adj1" fmla="val -65583"/>
              <a:gd name="adj2" fmla="val -7587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s fonctionnalités sont réservées à l’administrateur national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les constituent le cœur de l’application  GALION-Web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666880"/>
            <a:ext cx="2057400" cy="1067040"/>
          </a:xfrm>
          <a:prstGeom prst="wedgeRoundRectCallout">
            <a:avLst>
              <a:gd name="adj1" fmla="val -70138"/>
              <a:gd name="adj2" fmla="val 180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Aides permet à l’administrateur national de gérer les natures d’opération,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 créer, modifier ou supprimer une aide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886200"/>
            <a:ext cx="2057400" cy="1066680"/>
          </a:xfrm>
          <a:prstGeom prst="wedgeRoundRectCallout">
            <a:avLst>
              <a:gd name="adj1" fmla="val -109874"/>
              <a:gd name="adj2" fmla="val -501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Paramètres globaux permet de gérer l’ensemble des paramètres partagés entre les différentes réglementations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5029200"/>
            <a:ext cx="2514600" cy="1219320"/>
          </a:xfrm>
          <a:prstGeom prst="wedgeRoundRectCallout">
            <a:avLst>
              <a:gd name="adj1" fmla="val -86236"/>
              <a:gd name="adj2" fmla="val -772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Paramètres Réglementations permet d’assembler les paramètres définis précédemment pour constituer des cadres réglementaires et des réglementations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nctionnalités d’administ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MenuAdministration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72200" y="1600200"/>
            <a:ext cx="1143000" cy="380880"/>
          </a:xfrm>
          <a:prstGeom prst="wedgeRoundRectCallout">
            <a:avLst>
              <a:gd name="adj1" fmla="val -56527"/>
              <a:gd name="adj2" fmla="val 109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u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ministration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209680"/>
            <a:ext cx="1905120" cy="762120"/>
          </a:xfrm>
          <a:prstGeom prst="wedgeRoundRectCallout">
            <a:avLst>
              <a:gd name="adj1" fmla="val -125416"/>
              <a:gd name="adj2" fmla="val 593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 fonctionnalités d’administration consistent à créer et tenir à jour le référentiel national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124080"/>
            <a:ext cx="2438280" cy="1295640"/>
          </a:xfrm>
          <a:prstGeom prst="wedgeRoundRectCallout">
            <a:avLst>
              <a:gd name="adj1" fmla="val -116925"/>
              <a:gd name="adj2" fmla="val 4203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tte fonctionnalité est principalement réservée à l’administrateur national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 administrateurs locaux peuvent consulter et extraire sur fichiers tout ou partie de ce référentiel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4572000"/>
            <a:ext cx="2286000" cy="762120"/>
          </a:xfrm>
          <a:prstGeom prst="wedgeRoundRectCallout">
            <a:avLst>
              <a:gd name="adj1" fmla="val -97291"/>
              <a:gd name="adj2" fmla="val -39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Entités gestionnaires sert à définir les données générales de l’entité gestionnaire courante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5486400"/>
            <a:ext cx="2057400" cy="762120"/>
          </a:xfrm>
          <a:prstGeom prst="wedgeRoundRectCallout">
            <a:avLst>
              <a:gd name="adj1" fmla="val -91513"/>
              <a:gd name="adj2" fmla="val -937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ubrique Barèmes sert à consulter et adapter localement les barèmes créés au plan national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848000" y="304920"/>
            <a:ext cx="59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70560" y="2674800"/>
            <a:ext cx="2225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352680"/>
            <a:ext cx="205740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e référentiel est constitué de l’ensemble des données communes utilisées pour instruire les dossiers de financement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7:45:22Z</dcterms:created>
  <dc:creator>NEC Computers International</dc:creator>
  <dc:description/>
  <dc:language>en-US</dc:language>
  <cp:lastModifiedBy> </cp:lastModifiedBy>
  <dcterms:modified xsi:type="dcterms:W3CDTF">2007-06-20T08:56:32Z</dcterms:modified>
  <cp:revision>14</cp:revision>
  <dc:subject/>
  <dc:title>GALION-Web</dc:title>
</cp:coreProperties>
</file>